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EC5-8940-4A5A-83D6-D8EAE856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04E-AFEB-4DA2-9BA1-0FB0AAD2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96E-DAF7-46C7-9EC5-800E93ED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ADD-974D-4005-B036-11D247D4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5EF-FFFF-4627-82F1-B1399A9C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7AB-FD47-4144-857E-62B49EEE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FEF-24BE-425F-AC0F-2284C06F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525-699F-41F3-9CD6-12D434E8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4EA-82E3-4B59-8BDE-927A46A0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C51-E75F-456B-AD6A-1924B858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ADE-395C-48FC-93E0-6EEE68A3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FE5-5A3F-4DC3-99AA-6E10B47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6F4B-6DBC-4BED-9FB6-335B8F83AE6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3924360" y="2637000"/>
            <a:ext cx="4968720" cy="123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4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رسل روحَك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211560" y="1989000"/>
            <a:ext cx="5932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روحَ يصلّي فيكم بأنات لا توص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3645000"/>
            <a:ext cx="9144000" cy="18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يرفرف على الميا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916280"/>
            <a:ext cx="52196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إن الروحَ يشه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ع أرواح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بأننا أبناء الل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8:29Z</dcterms:created>
  <dc:creator>Charbel Azar</dc:creator>
  <dc:description/>
  <dc:language>en-US</dc:language>
  <cp:lastModifiedBy>Personal</cp:lastModifiedBy>
  <dcterms:modified xsi:type="dcterms:W3CDTF">2008-04-23T17:22:08Z</dcterms:modified>
  <cp:revision>9</cp:revision>
  <dc:subject/>
  <dc:title>Slide 1</dc:title>
</cp:coreProperties>
</file>